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78C3-7814-49AC-97EA-B95CAF52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6F3-45F3-4071-A5FF-15A806E7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76B-9472-46B6-8193-17F243EB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1AF-20C6-4691-AAE2-841431C3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D9D-BE7C-4608-A0DB-689363D2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B01-1C02-4E59-8934-0FC19A7C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1551-9681-4112-8F5C-3B058778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56E-C021-482A-B6B4-43049444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DABB-9C0D-4AA9-B287-4D499C1B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B1A-9E14-4561-881B-4A29048F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E563-2443-4ED4-A394-3A732D09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735-093F-409A-9D6B-956FC5B1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573F-6508-4F63-8671-5E5724362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Batik Regular"/>
              </a:rPr>
              <a:t>Unit 1 Revie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Batik Regular"/>
              </a:rPr>
              <a:t>Factors and Mult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atik Regular"/>
              </a:rPr>
              <a:t>Read each question and choose the best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77120" y="5334120"/>
            <a:ext cx="863640" cy="8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Batik Regular"/>
              </a:rPr>
              <a:t>Factors of a nu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tik Regular"/>
              </a:rPr>
              <a:t>All numbers have at least 2 factors, they are 1 and themselves.  All factors are lower than the number they make.  1, 2, 3, 4, 6, 12.  Are ALL the factors of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tik Regular"/>
              </a:rPr>
              <a:t>Which number is NOT a factor of 6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0720" y="4648320"/>
            <a:ext cx="838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orte"/>
              </a:rPr>
              <a:t>7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95480" y="4572000"/>
            <a:ext cx="91440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orte"/>
              </a:rPr>
              <a:t>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00600" y="4495680"/>
            <a:ext cx="990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orte"/>
              </a:rPr>
              <a:t>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781680" y="495288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orte"/>
              </a:rPr>
              <a:t>6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tik Regular"/>
              </a:rPr>
              <a:t>You seem to be getting stuck.  Take your time and use your scrap paper to help you answer this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tik Regular"/>
              </a:rPr>
              <a:t>Is 64 a multiple of 4 or 8? Remember a multiples of a number is a number you land on when counting by that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28800" y="4267080"/>
            <a:ext cx="1143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Juice ITC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Juice ITC"/>
              <a:ea typeface="Juice IT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191120" y="4343400"/>
            <a:ext cx="990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Juice ITC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Juice ITC"/>
              <a:ea typeface="Juice IT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5880" y="4267080"/>
            <a:ext cx="1905120" cy="14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Juice ITC"/>
              </a:rPr>
              <a:t>bo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Juice ITC"/>
              <a:ea typeface="Juice IT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atik Regular"/>
              </a:rPr>
              <a:t>Lets 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tik Regular"/>
              </a:rPr>
              <a:t>What is a square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971800"/>
            <a:ext cx="2590560" cy="2590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373392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number that only has 2 fa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2133720"/>
            <a:ext cx="3353040" cy="3504960"/>
          </a:xfrm>
          <a:prstGeom prst="triangle">
            <a:avLst>
              <a:gd name="adj" fmla="val 50000"/>
            </a:avLst>
          </a:prstGeom>
          <a:solidFill>
            <a:srgbClr val="4305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3581280"/>
            <a:ext cx="167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number that has the same factor multiplied by itself to reach the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atik Regular"/>
              </a:rPr>
              <a:t>Square Vs. Pr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square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number that has the same factor multiplied by itself to reach the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ime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number that only has two factors. 1 and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4495680"/>
            <a:ext cx="3200400" cy="1295640"/>
          </a:xfrm>
          <a:prstGeom prst="rightArrow">
            <a:avLst>
              <a:gd name="adj1" fmla="val 50000"/>
              <a:gd name="adj2" fmla="val 617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99"/>
                </a:solidFill>
                <a:latin typeface="Batik Regular"/>
              </a:rPr>
              <a:t>Factors of 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tik Regular"/>
              </a:rPr>
              <a:t>Both 8 and 4 are factors of 64. Therefore, 64 is a multiple of both 8 and 4. If you count by either of these numbers you will land on 6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tik Regular"/>
              </a:rPr>
              <a:t>4,8,12,16,20,24,28,32,36,40,44,48,52,56,60,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tik Regular"/>
              </a:rPr>
              <a:t>8,16,24,32,40,48,56,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8502800">
            <a:off x="5333760" y="3733200"/>
            <a:ext cx="2971800" cy="26668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6248520" y="472428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Batik Regular"/>
              </a:rPr>
              <a:t>~   You Did Well   ~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atik Regular"/>
              </a:rPr>
              <a:t>Click on the picture below for additional multiplication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atik Regular"/>
              </a:rPr>
              <a:t>You may play this game two times before returning to your s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atik Regular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Batik Regular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Batik Regular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Batik Regular"/>
              </a:rPr>
              <a:t>Good Lu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3200400"/>
            <a:ext cx="236196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tik Regular"/>
              </a:rPr>
              <a:t>What is a fac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990720" y="2133720"/>
            <a:ext cx="7391160" cy="1143000"/>
          </a:xfrm>
          <a:custGeom>
            <a:avLst/>
            <a:gdLst>
              <a:gd name="textAreaLeft" fmla="*/ 73800 w 7391160"/>
              <a:gd name="textAreaRight" fmla="*/ 7317360 w 73911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39638" h="21600">
                <a:moveTo>
                  <a:pt x="0" y="0"/>
                </a:moveTo>
                <a:lnTo>
                  <a:pt x="139638" y="0"/>
                </a:lnTo>
                <a:lnTo>
                  <a:pt x="139638" y="21600"/>
                </a:lnTo>
                <a:lnTo>
                  <a:pt x="0" y="21600"/>
                </a:lnTo>
                <a:close/>
              </a:path>
              <a:path fill="lightenLess" w="139638" h="21600">
                <a:moveTo>
                  <a:pt x="0" y="0"/>
                </a:moveTo>
                <a:lnTo>
                  <a:pt x="139638" y="0"/>
                </a:lnTo>
                <a:lnTo>
                  <a:pt x="138238" y="1400"/>
                </a:lnTo>
                <a:lnTo>
                  <a:pt x="1400" y="1400"/>
                </a:lnTo>
                <a:close/>
              </a:path>
              <a:path fill="darken" w="139638" h="21600">
                <a:moveTo>
                  <a:pt x="139638" y="0"/>
                </a:moveTo>
                <a:lnTo>
                  <a:pt x="139638" y="21600"/>
                </a:lnTo>
                <a:lnTo>
                  <a:pt x="138238" y="20200"/>
                </a:lnTo>
                <a:lnTo>
                  <a:pt x="138238" y="1400"/>
                </a:lnTo>
                <a:close/>
              </a:path>
              <a:path fill="darkenLess" w="139638" h="21600">
                <a:moveTo>
                  <a:pt x="1396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238" y="20200"/>
                </a:lnTo>
                <a:close/>
              </a:path>
              <a:path fill="lighten" w="1396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 that you multiply with another number to get to a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990720" y="3809880"/>
            <a:ext cx="7391160" cy="1067040"/>
          </a:xfrm>
          <a:custGeom>
            <a:avLst/>
            <a:gdLst>
              <a:gd name="textAreaLeft" fmla="*/ 69120 w 7391160"/>
              <a:gd name="textAreaRight" fmla="*/ 7322040 w 739116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149575" h="21600">
                <a:moveTo>
                  <a:pt x="0" y="0"/>
                </a:moveTo>
                <a:lnTo>
                  <a:pt x="149575" y="0"/>
                </a:lnTo>
                <a:lnTo>
                  <a:pt x="149575" y="21600"/>
                </a:lnTo>
                <a:lnTo>
                  <a:pt x="0" y="21600"/>
                </a:lnTo>
                <a:close/>
              </a:path>
              <a:path fill="lightenLess" w="149575" h="21600">
                <a:moveTo>
                  <a:pt x="0" y="0"/>
                </a:moveTo>
                <a:lnTo>
                  <a:pt x="149575" y="0"/>
                </a:lnTo>
                <a:lnTo>
                  <a:pt x="148176" y="1400"/>
                </a:lnTo>
                <a:lnTo>
                  <a:pt x="1400" y="1400"/>
                </a:lnTo>
                <a:close/>
              </a:path>
              <a:path fill="darken" w="149575" h="21600">
                <a:moveTo>
                  <a:pt x="149575" y="0"/>
                </a:moveTo>
                <a:lnTo>
                  <a:pt x="149575" y="21600"/>
                </a:lnTo>
                <a:lnTo>
                  <a:pt x="148176" y="20200"/>
                </a:lnTo>
                <a:lnTo>
                  <a:pt x="148176" y="1400"/>
                </a:lnTo>
                <a:close/>
              </a:path>
              <a:path fill="darkenLess" w="149575" h="21600">
                <a:moveTo>
                  <a:pt x="1495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8176" y="20200"/>
                </a:lnTo>
                <a:close/>
              </a:path>
              <a:path fill="lighten" w="1495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 that you land on when you count by a specific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Batik Regular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Batik Regular"/>
              </a:rPr>
              <a:t>True of False?  32 is a multiple of 8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6000" y="2971800"/>
            <a:ext cx="905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Porky's"/>
              </a:rPr>
              <a:t>Tru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3720" y="4191120"/>
            <a:ext cx="1057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Porky's"/>
              </a:rPr>
              <a:t>Fals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733920" y="1981080"/>
            <a:ext cx="4671720" cy="42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Batik Regular"/>
              </a:rPr>
              <a:t>Let’s Try Agai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tik Regular"/>
              </a:rPr>
              <a:t>A factor is a number that you multiply with another number to get to a product.  For example, 3 and 4 are two factors of 12…3x4=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tik Regular"/>
              </a:rPr>
              <a:t>Is 6 a factor of 25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1905120" y="5105520"/>
            <a:ext cx="1676160" cy="914400"/>
          </a:xfrm>
          <a:custGeom>
            <a:avLst/>
            <a:gdLst>
              <a:gd name="textAreaLeft" fmla="*/ 59040 w 1676160"/>
              <a:gd name="textAreaRight" fmla="*/ 1617120 w 1676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87" h="21600">
                <a:moveTo>
                  <a:pt x="0" y="0"/>
                </a:moveTo>
                <a:lnTo>
                  <a:pt x="39587" y="0"/>
                </a:lnTo>
                <a:lnTo>
                  <a:pt x="39587" y="21600"/>
                </a:lnTo>
                <a:lnTo>
                  <a:pt x="0" y="21600"/>
                </a:lnTo>
                <a:close/>
              </a:path>
              <a:path fill="lightenLess" w="39587" h="21600">
                <a:moveTo>
                  <a:pt x="0" y="0"/>
                </a:moveTo>
                <a:lnTo>
                  <a:pt x="39587" y="0"/>
                </a:lnTo>
                <a:lnTo>
                  <a:pt x="38187" y="1400"/>
                </a:lnTo>
                <a:lnTo>
                  <a:pt x="1400" y="1400"/>
                </a:lnTo>
                <a:close/>
              </a:path>
              <a:path fill="darken" w="39587" h="21600">
                <a:moveTo>
                  <a:pt x="39587" y="0"/>
                </a:moveTo>
                <a:lnTo>
                  <a:pt x="39587" y="21600"/>
                </a:lnTo>
                <a:lnTo>
                  <a:pt x="38187" y="20200"/>
                </a:lnTo>
                <a:lnTo>
                  <a:pt x="38187" y="1400"/>
                </a:lnTo>
                <a:close/>
              </a:path>
              <a:path fill="darkenLess" w="39587" h="21600">
                <a:moveTo>
                  <a:pt x="39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7" y="20200"/>
                </a:lnTo>
                <a:close/>
              </a:path>
              <a:path fill="lighten" w="39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e1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tik Regular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5410080" y="502920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tik Regular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Batik Regular"/>
              </a:rPr>
              <a:t>Right Again! </a:t>
            </a:r>
            <a:br>
              <a:rPr sz="4400"/>
            </a:br>
            <a:r>
              <a:rPr b="0" lang="en-US" sz="2800" spc="-1" strike="noStrike">
                <a:solidFill>
                  <a:srgbClr val="009999"/>
                </a:solidFill>
                <a:latin typeface="Batik Regular"/>
              </a:rPr>
              <a:t>Keep up the Good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atik Regular"/>
              </a:rPr>
              <a:t>Which choice shows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Batik Regular"/>
              </a:rPr>
              <a:t>ALL</a:t>
            </a:r>
            <a:r>
              <a:rPr b="0" lang="en-US" sz="3200" spc="-1" strike="noStrike">
                <a:solidFill>
                  <a:srgbClr val="ff6600"/>
                </a:solidFill>
                <a:latin typeface="Batik Regular"/>
              </a:rPr>
              <a:t>  the factors of 4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2514600" y="2971800"/>
            <a:ext cx="3886200" cy="838080"/>
          </a:xfrm>
          <a:custGeom>
            <a:avLst/>
            <a:gdLst>
              <a:gd name="textAreaLeft" fmla="*/ 54000 w 3886200"/>
              <a:gd name="textAreaRight" fmla="*/ 3832200 w 3886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00126" h="21600">
                <a:moveTo>
                  <a:pt x="0" y="0"/>
                </a:moveTo>
                <a:lnTo>
                  <a:pt x="100126" y="0"/>
                </a:lnTo>
                <a:lnTo>
                  <a:pt x="100126" y="21600"/>
                </a:lnTo>
                <a:lnTo>
                  <a:pt x="0" y="21600"/>
                </a:lnTo>
                <a:close/>
              </a:path>
              <a:path fill="lightenLess" w="100126" h="21600">
                <a:moveTo>
                  <a:pt x="0" y="0"/>
                </a:moveTo>
                <a:lnTo>
                  <a:pt x="100126" y="0"/>
                </a:lnTo>
                <a:lnTo>
                  <a:pt x="98726" y="1400"/>
                </a:lnTo>
                <a:lnTo>
                  <a:pt x="1400" y="1400"/>
                </a:lnTo>
                <a:close/>
              </a:path>
              <a:path fill="darken" w="100126" h="21600">
                <a:moveTo>
                  <a:pt x="100126" y="0"/>
                </a:moveTo>
                <a:lnTo>
                  <a:pt x="100126" y="21600"/>
                </a:lnTo>
                <a:lnTo>
                  <a:pt x="98726" y="20200"/>
                </a:lnTo>
                <a:lnTo>
                  <a:pt x="98726" y="1400"/>
                </a:lnTo>
                <a:close/>
              </a:path>
              <a:path fill="darkenLess" w="100126" h="21600">
                <a:moveTo>
                  <a:pt x="100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726" y="20200"/>
                </a:lnTo>
                <a:close/>
              </a:path>
              <a:path fill="lighten" w="100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 6, 7,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2514600" y="3962520"/>
            <a:ext cx="3886200" cy="761760"/>
          </a:xfrm>
          <a:custGeom>
            <a:avLst/>
            <a:gdLst>
              <a:gd name="textAreaLeft" fmla="*/ 49320 w 3886200"/>
              <a:gd name="textAreaRight" fmla="*/ 3836880 w 38862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10153" h="21600">
                <a:moveTo>
                  <a:pt x="0" y="0"/>
                </a:moveTo>
                <a:lnTo>
                  <a:pt x="110153" y="0"/>
                </a:lnTo>
                <a:lnTo>
                  <a:pt x="110153" y="21600"/>
                </a:lnTo>
                <a:lnTo>
                  <a:pt x="0" y="21600"/>
                </a:lnTo>
                <a:close/>
              </a:path>
              <a:path fill="lightenLess" w="110153" h="21600">
                <a:moveTo>
                  <a:pt x="0" y="0"/>
                </a:moveTo>
                <a:lnTo>
                  <a:pt x="110153" y="0"/>
                </a:lnTo>
                <a:lnTo>
                  <a:pt x="108753" y="1400"/>
                </a:lnTo>
                <a:lnTo>
                  <a:pt x="1400" y="1400"/>
                </a:lnTo>
                <a:close/>
              </a:path>
              <a:path fill="darken" w="110153" h="21600">
                <a:moveTo>
                  <a:pt x="110153" y="0"/>
                </a:moveTo>
                <a:lnTo>
                  <a:pt x="110153" y="21600"/>
                </a:lnTo>
                <a:lnTo>
                  <a:pt x="108753" y="20200"/>
                </a:lnTo>
                <a:lnTo>
                  <a:pt x="108753" y="1400"/>
                </a:lnTo>
                <a:close/>
              </a:path>
              <a:path fill="darkenLess" w="110153" h="21600">
                <a:moveTo>
                  <a:pt x="1101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753" y="20200"/>
                </a:lnTo>
                <a:close/>
              </a:path>
              <a:path fill="lighten" w="1101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, 84, 126, 1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2514600" y="4876920"/>
            <a:ext cx="3886200" cy="761760"/>
          </a:xfrm>
          <a:custGeom>
            <a:avLst/>
            <a:gdLst>
              <a:gd name="textAreaLeft" fmla="*/ 49320 w 3886200"/>
              <a:gd name="textAreaRight" fmla="*/ 3836880 w 38862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10153" h="21600">
                <a:moveTo>
                  <a:pt x="0" y="0"/>
                </a:moveTo>
                <a:lnTo>
                  <a:pt x="110153" y="0"/>
                </a:lnTo>
                <a:lnTo>
                  <a:pt x="110153" y="21600"/>
                </a:lnTo>
                <a:lnTo>
                  <a:pt x="0" y="21600"/>
                </a:lnTo>
                <a:close/>
              </a:path>
              <a:path fill="lightenLess" w="110153" h="21600">
                <a:moveTo>
                  <a:pt x="0" y="0"/>
                </a:moveTo>
                <a:lnTo>
                  <a:pt x="110153" y="0"/>
                </a:lnTo>
                <a:lnTo>
                  <a:pt x="108753" y="1400"/>
                </a:lnTo>
                <a:lnTo>
                  <a:pt x="1400" y="1400"/>
                </a:lnTo>
                <a:close/>
              </a:path>
              <a:path fill="darken" w="110153" h="21600">
                <a:moveTo>
                  <a:pt x="110153" y="0"/>
                </a:moveTo>
                <a:lnTo>
                  <a:pt x="110153" y="21600"/>
                </a:lnTo>
                <a:lnTo>
                  <a:pt x="108753" y="20200"/>
                </a:lnTo>
                <a:lnTo>
                  <a:pt x="108753" y="1400"/>
                </a:lnTo>
                <a:close/>
              </a:path>
              <a:path fill="darkenLess" w="110153" h="21600">
                <a:moveTo>
                  <a:pt x="1101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753" y="20200"/>
                </a:lnTo>
                <a:close/>
              </a:path>
              <a:path fill="lighten" w="1101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2, 3, 6, 7, 14, 21,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Batik Regular"/>
              </a:rPr>
              <a:t>Think of it this way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tik Regular"/>
              </a:rPr>
              <a:t>32 is a multiple of 8.  If you count by 8, you will land on 32. That proves that 32 is a multiple of 8.  8, 16, 24, 32, 4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tik Regular"/>
              </a:rPr>
              <a:t>Which number is a factor of 2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2362320" y="4724280"/>
            <a:ext cx="1523880" cy="685800"/>
          </a:xfrm>
          <a:custGeom>
            <a:avLst/>
            <a:gdLst>
              <a:gd name="textAreaLeft" fmla="*/ 44280 w 1523880"/>
              <a:gd name="textAreaRight" fmla="*/ 1479600 w 1523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6582" y="1400"/>
                </a:lnTo>
                <a:lnTo>
                  <a:pt x="1400" y="140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6582" y="20200"/>
                </a:lnTo>
                <a:lnTo>
                  <a:pt x="46582" y="140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2" y="2020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5638680" y="472428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tik Regular"/>
              </a:rPr>
              <a:t>Sorry, let’s think about thi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tik Regular"/>
              </a:rPr>
              <a:t>Remember, a factor is number that you multiply by another to number to reach a product.  With this problem 25 is the product, so can you multiply 6 with another number to get to 25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tik Regular"/>
              </a:rPr>
              <a:t>6x1=6       This shows that 6 is NOT a factor of 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tik Regular"/>
              </a:rPr>
              <a:t>6x2=12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tik Regular"/>
              </a:rPr>
              <a:t>6x3=18     Is 7 a factor of 35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tik Regular"/>
              </a:rPr>
              <a:t>6x4=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tik Regular"/>
              </a:rPr>
              <a:t>6x5=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477120" y="3962520"/>
            <a:ext cx="15811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Y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781680" y="5105520"/>
            <a:ext cx="10954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N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Batik Regular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tik Regular"/>
              </a:rPr>
              <a:t>True or False…54 is a multiple of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 rot="5400000">
            <a:off x="2742840" y="3733560"/>
            <a:ext cx="205740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Tru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 rot="5400000">
            <a:off x="4453920" y="3698640"/>
            <a:ext cx="2178000" cy="723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Baby Kruffy"/>
              </a:rPr>
              <a:t>Fals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Baby Kruffy"/>
              <a:ea typeface="Baby Kruffy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Batik Regular"/>
              </a:rPr>
              <a:t>You are on a ro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tik Regular"/>
              </a:rPr>
              <a:t>What number fits all of these cl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ik 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tik Regular"/>
              </a:rPr>
              <a:t>This number is a squar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ik 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tik Regular"/>
              </a:rPr>
              <a:t>This number if a multiple of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ik 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tik Regular"/>
              </a:rPr>
              <a:t>This number is greater than 5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47920" y="4648320"/>
            <a:ext cx="12189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Elephant"/>
              </a:rPr>
              <a:t>6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Elephant"/>
              <a:ea typeface="Elephan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62520" y="4648320"/>
            <a:ext cx="1066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Elephant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Elephant"/>
              <a:ea typeface="Elephan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5880" y="4648320"/>
            <a:ext cx="990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Elephant"/>
              </a:rPr>
              <a:t>8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Elephant"/>
              <a:ea typeface="Elephan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22:00:05Z</dcterms:created>
  <dc:creator>john</dc:creator>
  <dc:description/>
  <dc:language>en-US</dc:language>
  <cp:lastModifiedBy>john</cp:lastModifiedBy>
  <dcterms:modified xsi:type="dcterms:W3CDTF">2009-09-14T01:50:53Z</dcterms:modified>
  <cp:revision>5</cp:revision>
  <dc:subject/>
  <dc:title>Unit 1 Review</dc:title>
</cp:coreProperties>
</file>